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F72C-E216-4815-AF67-D56A26521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64F9-0DD4-4666-9988-ED1BE086C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EBB4-30CE-42A8-8884-2EC0A72C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E621-376D-4DE2-BD00-BEFDDACD1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5838-F35C-4E6A-9DA3-4AB39A8E0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999D-F15B-45E8-8633-B621D023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4B6F-8D9B-44DF-8624-274004A24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E66-4967-4847-827C-30F312D32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33B-4D10-4711-B670-F4704482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6439-E30E-45EC-B363-99C375E7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E377-3495-45EE-9BA5-483D99B3E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3E95-AD5D-455A-AB8D-5867C294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553E-D1D2-4FC6-8DD6-B12BF312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842B-EC5E-4F27-A942-E230ADCC8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67C7-6E65-4A5D-A7D6-E6592CE7C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B871-C469-4681-8B33-F88C8F1E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364D-1A16-4307-BE39-2851B249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355-3458-4924-80C5-7565DB6D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384A-5811-45AD-945A-7E80BA3A0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C027-96CC-4930-9405-C75BD0747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54E-DBB0-445A-8D42-44B36E2D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DC53-89F6-4C26-9383-C07AFD641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2DF7-7205-43B4-9A74-77B44618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F363-8CE8-4EC2-A1FB-0D9006C3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8216-EF10-4FCA-906B-9F3BF4CCE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DDB-0EA4-41C0-ACA5-188039A5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E49-FBA9-4612-A702-A37E4E86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3D6E-2D7D-4F0A-AD7C-067BD601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FFF-18DF-4F11-AE00-41F7AD4B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6D8E-9A24-4EE4-9F72-91D21C7B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AE2C-5F4A-452C-B0E0-5CEF5FE9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3AC6-815E-4775-8328-C32CFD48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0ACB-94CE-4B26-B089-B411D20F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59B0-6702-438F-8C6D-6A2E862F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AD25-7C49-4CCC-A315-AAC6E10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BAB7-7897-498A-A709-DB1BBB05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0FD0-F655-4AF8-86BA-DFD29296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C487-551C-4540-AD9B-305D69A2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F278-B747-4E65-89A9-38088ACE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BAF0-B8F0-44C3-8824-15F5F81C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AD47-9871-4CF5-8145-3758B281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FD76-BF08-46DE-B188-E45F8F4E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D56F-8A32-458F-B325-A935A6B2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3D5FC-3F0C-425D-96F3-B264C53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5E2D-ADFB-46EB-B758-F70BEFD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6A088-BC27-4C58-BCBE-F8F187A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CAB8-DFC3-48D9-A05C-88432FFC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C73-B004-4DAB-A728-2863528C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0C7A-B4B1-45D1-A9BF-64B5671B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BA874-A4C9-4953-927E-BB973EE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5641-CD62-4748-8BEF-65460E5A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030A-9D06-43D2-938A-D06BB51D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1F42-0CFA-4763-AEE3-E35ABCFA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8CA8-AAC9-47EB-92E1-6B7BB8A1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99B8-F770-469D-917D-22010AC9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D22-04F5-4106-B907-2DF8030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1E5-48CB-4046-BFD2-A034E754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90-3FAB-4102-92F6-B72EFB9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C60-5AE6-408F-B8D8-7FBC5BD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B3B-9620-4F0F-936E-D11D6FB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434-14A2-4494-9E9D-CCC01657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AutoShape 3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981720" y="1219320"/>
              <a:ext cx="724176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AutoShape 6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7A00-D744-4971-8418-E61DC56B6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3258-9427-44E0-8346-52F88D28C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91" name="AutoShape 3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981720" y="3352320"/>
              <a:ext cx="724176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94" name="AutoShape 6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87C-A713-4417-AF83-0BD75A7A0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built great stuff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built  great roads to travel on and aqueducts to bring water into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also built great stadiums and amphitheaters for the entertainment of the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also developed the use of the ar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first emperor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avian is Rome’s first empe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took the name Augustus Caes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his rule, Rome expanded and enjoyed a period of peace.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9" descr="augustus-caesar"/>
          <p:cNvPicPr/>
          <p:nvPr/>
        </p:nvPicPr>
        <p:blipFill>
          <a:blip r:embed="rId2"/>
          <a:stretch/>
        </p:blipFill>
        <p:spPr>
          <a:xfrm>
            <a:off x="5187960" y="1828800"/>
            <a:ext cx="273060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ax Romana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lived in peace for 200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called the Pax Romana, the Peace of Rome. Unfortunately for Rome, the peace would not l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grew weak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e grew weak because it had grown too l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reason Rome grew weak is that they had tax problems and couldn’t raise enough money to keep the roads from crumb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also a problem in the empire. With so many slaves, the people did not need to wo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problems that helped R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downfall were corrupt generals, civil wars, and economic probl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518"/>
                </a:solidFill>
                <a:latin typeface="Arial"/>
              </a:rPr>
              <a:t>Barbarians at the gates</a:t>
            </a:r>
            <a:endParaRPr b="0" lang="en-US" sz="4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the people who destroyed Rome Barbari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ans called anyone who didn’t speak Greek, even though the word barbarian actually means uncivilized, lacking in culture and vio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man Empire fell in 476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empire would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Byzantium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part of the Roman Empire became known as the Byzantine Empire or Byzant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5" descr="byzantine"/>
          <p:cNvPicPr/>
          <p:nvPr/>
        </p:nvPicPr>
        <p:blipFill>
          <a:blip r:embed="rId2"/>
          <a:stretch/>
        </p:blipFill>
        <p:spPr>
          <a:xfrm>
            <a:off x="914400" y="2819520"/>
            <a:ext cx="7467480" cy="392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ople was named for emperor Constant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ine was important because  he legalized Christianity in the emp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Constantine’s rule, Christianity spread great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moved the capital of the empire from Rome to Constantinop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5257800" y="1752480"/>
            <a:ext cx="30099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constantinoplemaplarge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grow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antinople became a leading center of t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helped the Byzantine Empire grow ri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300px-Roerich_slavs"/>
          <p:cNvPicPr/>
          <p:nvPr/>
        </p:nvPicPr>
        <p:blipFill>
          <a:blip r:embed="rId2"/>
          <a:stretch/>
        </p:blipFill>
        <p:spPr>
          <a:xfrm>
            <a:off x="3886200" y="2514600"/>
            <a:ext cx="4724280" cy="3575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Justinian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was the greatest of the Byzantine emper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made many changes in the law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laws were called The Code of Justini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inian also built many churches throughout the empi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9" descr="Justinian"/>
          <p:cNvPicPr/>
          <p:nvPr/>
        </p:nvPicPr>
        <p:blipFill>
          <a:blip r:embed="rId2"/>
          <a:stretch/>
        </p:blipFill>
        <p:spPr>
          <a:xfrm>
            <a:off x="4948200" y="182880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Disagreements between east and wes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the people in the Byzantine Empire were Christian, but the people in the west and the people in the east disagreed about how to worship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d to a split in the Catholic Church. It was called a sch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ism is a split. The Roman Catholic Church had a schism, splitting in hal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2" descr="romanraod2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Roman-Aqueduct"/>
          <p:cNvPicPr/>
          <p:nvPr/>
        </p:nvPicPr>
        <p:blipFill>
          <a:blip r:embed="rId2"/>
          <a:stretch/>
        </p:blipFill>
        <p:spPr>
          <a:xfrm>
            <a:off x="4572000" y="2286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Coliseum"/>
          <p:cNvPicPr/>
          <p:nvPr/>
        </p:nvPicPr>
        <p:blipFill>
          <a:blip r:embed="rId3"/>
          <a:stretch/>
        </p:blipFill>
        <p:spPr>
          <a:xfrm>
            <a:off x="304920" y="3429000"/>
            <a:ext cx="3809880" cy="2860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Arch"/>
          <p:cNvPicPr/>
          <p:nvPr/>
        </p:nvPicPr>
        <p:blipFill>
          <a:blip r:embed="rId4"/>
          <a:stretch/>
        </p:blipFill>
        <p:spPr>
          <a:xfrm>
            <a:off x="4800600" y="3505320"/>
            <a:ext cx="3505320" cy="2993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wo churche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east was called Eastern Orthod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urch in the west was called Roman Cathol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518"/>
                </a:solidFill>
                <a:latin typeface="Arial"/>
              </a:rPr>
              <a:t>Patriarch</a:t>
            </a:r>
            <a:endParaRPr b="0" lang="en-US" sz="36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Constantinople was called the Patriar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092560" y="1828800"/>
            <a:ext cx="2921040" cy="44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Pop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 of the church in Rome was called the P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7" descr="jpii2"/>
          <p:cNvPicPr/>
          <p:nvPr/>
        </p:nvPicPr>
        <p:blipFill>
          <a:blip r:embed="rId2"/>
          <a:stretch/>
        </p:blipFill>
        <p:spPr>
          <a:xfrm>
            <a:off x="4114800" y="2724120"/>
            <a:ext cx="4343400" cy="3084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onstantinople is captur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lit in the church weakened the Byzantine Emp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453, the Ottoman Turks captured Constantinople and the Byzantine Empire came to an e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Byzantine Empire preserves great stuff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yzantine Empire preserved the art and literature of the Greeks and Rom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the Byzantine, the world may have lost great treasures of the p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 was a Republic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ublic is a form of government where people elect represent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nited States has a representative government. We learned about this for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The Senat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nate led the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made the laws for the repub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48320" y="2262240"/>
            <a:ext cx="3809880" cy="362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e’s women got shafted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e might have had representative government, but not all people were repres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women were not allowed to vo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Citizenship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s had a strong sense of citizenshi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citizens were protected by Rome, but had a duty to participate in society and to make it bet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ilosophy that preached good citizenship was called Stoicis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icism stressed the importance of being a good citiz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Law and Right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an laws stressed fairness and common sen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equal treatment under the law in Rome and people were considered innocent until proved guilty when accused of a cr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took much of our system of government from the Roman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Roman Ar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aics were popular in Rome. A mosaic is a picture made out of small, colored tiles or pieces of g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mans also made great statues that looked like the real thing, even though they were made from st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43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810240" cy="1981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44" descr="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45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2772000" cy="327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46" descr=""/>
          <p:cNvPicPr/>
          <p:nvPr/>
        </p:nvPicPr>
        <p:blipFill>
          <a:blip r:embed="rId4"/>
          <a:stretch/>
        </p:blipFill>
        <p:spPr>
          <a:xfrm>
            <a:off x="3962520" y="3048120"/>
            <a:ext cx="472428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6:31:18Z</dcterms:created>
  <dc:creator>Jeff Kash</dc:creator>
  <dc:description/>
  <cp:keywords/>
  <dc:language>en-US</dc:language>
  <cp:lastModifiedBy>San Diego City Schools</cp:lastModifiedBy>
  <dcterms:modified xsi:type="dcterms:W3CDTF">2010-09-22T23:39:43Z</dcterms:modified>
  <cp:revision>28</cp:revision>
  <dc:subject/>
  <dc:title>PowerPoint Presentation  -  The Rise and Fall of the Roman Empire</dc:title>
</cp:coreProperties>
</file>